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C83-1DCF-452F-974F-CF1BB17D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92A-5E2F-464F-A6BC-E549D8C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44E-59DE-4535-92F2-8BB5C08F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56E-ECF6-4FB7-B0EE-4B4AD3D9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0FB9-CCCB-4E9F-8EA0-AF64E3B8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7904-E765-420F-9B34-0E81C15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A11-C127-4F2F-8CF4-C5A5433A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302B-06F3-4C3A-A795-7EA2A038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5A0F-8611-48DB-AC9D-5B00C6A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164B-6BD5-4A8A-91BE-F6DD44B0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0A06-3EF2-427B-A681-2E8E029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ECB-03DB-494F-ABDC-8A2951C3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FFC3-D2BB-4E6E-83DE-5E923D2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10A-577F-409C-8B8E-997AC95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978B-E218-432B-A81B-7C3B050F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8F8A-E34C-4409-B4D8-99A291B4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DBE5-9C93-4390-99A5-613155B78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8F6-5E1A-4910-8D8A-A3D0D3A1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35D-D7E0-46D1-BB07-913AA87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50E-4126-4A02-9FD5-E6653F2E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C54-55CD-421C-B9DA-1BF3ABA8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08F1-3C86-42EF-88E0-2BBD00A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83-1F69-4B65-AA97-744B40F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EF8-5279-4F04-9E2B-9CBC5F3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C3C1-67C6-4049-82D4-B606BD3961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1372-7BB9-4BE7-A199-39D8B4EDD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gebra 2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 16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 system by the addition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 system by substitution meth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addition metho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ecessary, multiply one or both of the equations by a constant so that one of the variables can be eliminated by add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the eq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for the remaining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value found in step 3 into either of the equ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60520" indent="-560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for the remaining variabl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(3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= 3/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is (3, 3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f adding will not eliminate a variable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you will need to multiply one or both equations by a const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2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(3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5y=1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(5x +2y=1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0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0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1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58128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3) -5y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-5y=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y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 is (3, 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substitution metho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necessary, solve one of the original system for one of the vari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expression obtained in step 1 into the other equation of the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the equation found in step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stitute the value found in step 3 into either equation and sol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= 2x 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 -3(2x-1)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x-6x+3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x + 3 = -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x = -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= 3/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3276720"/>
            <a:ext cx="3962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2(3/2)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6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3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ed pair is (3/2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20:43:46Z</dcterms:created>
  <dc:creator>nuhs</dc:creator>
  <dc:description/>
  <dc:language>en-US</dc:language>
  <cp:lastModifiedBy>nuhs</cp:lastModifiedBy>
  <dcterms:modified xsi:type="dcterms:W3CDTF">2007-10-16T20:01:10Z</dcterms:modified>
  <cp:revision>9</cp:revision>
  <dc:subject/>
  <dc:title>Algebra 2A</dc:title>
</cp:coreProperties>
</file>